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B2A-24B1-4828-8967-99F35F38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405-82B9-443D-BA17-7561B570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9BF-0C7A-4ADE-86E5-82388CBE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10D-6F3D-44D6-8F88-7CAF536E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BA7-D044-45E7-A1D9-2FAF00D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8AA-959F-4EE9-B2E1-1D80E772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915-37F0-4356-8788-D9A03DC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977-9B3D-4215-BF13-4639126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D5D-FB83-49C9-B1DB-F4AB7BE7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4F5-0F16-4BB4-9BEE-1E576794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A27-C55B-44AB-B425-8B4D5D2A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B69-7E4A-408F-8DEF-EC72A79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D13-7C97-48BE-8F97-A874939CE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380880"/>
            <a:ext cx="5429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French Script MT"/>
              </a:rPr>
              <a:t>Io prendo le misure...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French Script MT"/>
              </a:rPr>
              <a:t>necessarie!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2" name=""/>
          <p:cNvSpPr/>
          <p:nvPr/>
        </p:nvSpPr>
        <p:spPr>
          <a:xfrm>
            <a:off x="1911240" y="2209680"/>
            <a:ext cx="2935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riamo un chilo di pane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o sei alto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rei un litro di Coca-cola!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760" y="3581280"/>
            <a:ext cx="66452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 hai usato frasi simili tante volte…senza pensare troppo a cosa c’è diet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no tutte e tre situazioni in cui 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“cose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engono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su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un oggetto possiamo misur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 p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 dimensioni line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capac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quanto contie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5334120"/>
            <a:ext cx="14479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24852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serva bene la tabell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 la maestra ti ha prepa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716292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a le tabelle 1 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807732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ondi alle do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934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7848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9067680"/>
            <a:ext cx="14479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8763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000" y="60480"/>
            <a:ext cx="60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Djanet, Ruben, Mara, Isabel, Jessica, Michele,Lara, Andrea, Simone, Stefano, Francesca dalla maestra Luis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9560" y="380880"/>
            <a:ext cx="416160" cy="457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920" y="3429000"/>
          <a:ext cx="6324480" cy="380988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1295280"/>
                <a:gridCol w="838080"/>
                <a:gridCol w="838440"/>
                <a:gridCol w="838080"/>
              </a:tblGrid>
              <a:tr h="754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dam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319400" y="190656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ell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a con le misure mancanti e scrivi il loro 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60480"/>
            <a:ext cx="60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Djanet, Ruben, Mara, Isabel, Jessica, Michele,Lara, Andrea, Simone, Stefano, Francesca dalla maestra Luis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89560" y="380880"/>
            <a:ext cx="416160" cy="457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04920" y="3200400"/>
          <a:ext cx="6324480" cy="64008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1295280"/>
                <a:gridCol w="838080"/>
                <a:gridCol w="838440"/>
                <a:gridCol w="838080"/>
              </a:tblGrid>
              <a:tr h="1441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dam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0" y="609480"/>
            <a:ext cx="6858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ell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omponi ed inserisci al giusto posto le seguenti misurazioni, ogni cifra nella casella appropri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15,365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56,12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98,6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15,006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m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6,34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m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78,1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,325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,059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235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,358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,349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2,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334120"/>
            <a:ext cx="6324480" cy="914400"/>
            <a:chOff x="304920" y="5334120"/>
            <a:chExt cx="6324480" cy="914400"/>
          </a:xfrm>
        </p:grpSpPr>
        <p:sp>
          <p:nvSpPr>
            <p:cNvPr id="62" name=""/>
            <p:cNvSpPr/>
            <p:nvPr/>
          </p:nvSpPr>
          <p:spPr>
            <a:xfrm>
              <a:off x="304920" y="533412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63868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59436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624852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4920" y="6858000"/>
            <a:ext cx="6324480" cy="914400"/>
            <a:chOff x="304920" y="6858000"/>
            <a:chExt cx="6324480" cy="914400"/>
          </a:xfrm>
        </p:grpSpPr>
        <p:sp>
          <p:nvSpPr>
            <p:cNvPr id="67" name=""/>
            <p:cNvSpPr/>
            <p:nvPr/>
          </p:nvSpPr>
          <p:spPr>
            <a:xfrm>
              <a:off x="304920" y="68580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920" y="716256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746748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77724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04920" y="8458200"/>
            <a:ext cx="6324480" cy="914400"/>
            <a:chOff x="304920" y="8458200"/>
            <a:chExt cx="6324480" cy="914400"/>
          </a:xfrm>
        </p:grpSpPr>
        <p:sp>
          <p:nvSpPr>
            <p:cNvPr id="72" name=""/>
            <p:cNvSpPr/>
            <p:nvPr/>
          </p:nvSpPr>
          <p:spPr>
            <a:xfrm>
              <a:off x="304920" y="84582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876276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920" y="906768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93726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7000" y="60480"/>
            <a:ext cx="60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Djanet, Ruben, Mara, Isabel, Jessica, Michele,Lara, Andrea, Simone, Stefano, Francesca dalla maestra Luis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9560" y="380880"/>
            <a:ext cx="416160" cy="457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560" y="228600"/>
            <a:ext cx="490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 dei seguenti prezzi corr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cch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su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migian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ina ver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57960" y="2286000"/>
            <a:ext cx="37026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 Kg di zucchero costa £………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g costa £…………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anto costa una bustina da 125 g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 metro di tessuto costa ………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anto costano 38 c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 hg di parmigiano costa £………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anto costano 3 K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 litro di benzina ver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sta £………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anto costano 5,7 d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2362320"/>
            <a:ext cx="3200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352680"/>
            <a:ext cx="32004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95680"/>
            <a:ext cx="32004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562720"/>
            <a:ext cx="3200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520" y="6675480"/>
            <a:ext cx="5403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leta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la bottiglia contiene 2….. …di acq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pacco dello zucchero pesa 1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mia macchina è lunga ……..        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 peso ……… 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 sono alto……… 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va e rispond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riempire una bottiglia di 1 ….. di acqua occorrono……….. bicchie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nto contiene ogni bicchie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osta……………………………………………………………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000" y="60480"/>
            <a:ext cx="60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Djanet, Ruben, Mara, Isabel, Jessica, Michele,Lara, Andrea, Simone, Stefano, Francesca dalla maestra Luis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89560" y="380880"/>
            <a:ext cx="416160" cy="457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0:02:27Z</dcterms:created>
  <dc:creator>Scuole Italiane Provincia Aut</dc:creator>
  <dc:description/>
  <dc:language>en-US</dc:language>
  <cp:lastModifiedBy>Windows 98</cp:lastModifiedBy>
  <dcterms:modified xsi:type="dcterms:W3CDTF">2001-04-18T13:50:37Z</dcterms:modified>
  <cp:revision>13</cp:revision>
  <dc:subject/>
  <dc:title>Presentazione di PowerPoint</dc:title>
</cp:coreProperties>
</file>