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7A8-5874-40D0-B750-F19B2D6B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DBC-6A22-4585-8EE7-CFC0355B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865-1C27-46A2-BDA8-AB143FAB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54B-30F5-4489-B3FB-28D2A268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4D9-F1B4-43F9-9506-1D9B66BE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1A5-D050-4277-873F-5FCBEC77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129-11C8-447E-82B3-1F3E3F98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EEB-0648-4AC9-BE9B-2755BAFF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EAAE-3C7F-465B-8A96-F3F3E9EF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001-B91B-4984-9926-C50DFD42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5B5-84D9-4A8E-A757-8F39F9DC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89A0-F22C-4D15-969D-727A6471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F6EA-489B-4758-BAC5-170101FD3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114800"/>
            <a:ext cx="6858000" cy="49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Le figure geometriche sono oggetti magi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u le guardi, ma se non sai osservare bene non scopri i loro segre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erva bene la figura della pagina successiva…. e segui le indicazioni passo dopo pas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isura bene la figura e disegnane due uguali su due cartoncini colorati diversamente, e chiama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figura rossa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figura bl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ividi l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figura rossa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con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due linee tratteggiat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che vann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da un vertice al vertice oppost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itaglia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l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figura rossa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seguendo le linee tratteggiate e i margini ester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sa ottieni? (scrivilo nella tabella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raccia per ogni figur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l’altezza relativa al lato più lung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con una linea tratteggi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taglia anche queste piccole figure sulla linea tratteggi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nta tutti i pezzi ottenuti (scrivilo nella tabella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isura  i lati e gli angoli  di ogni nuova figura (scrivilo nella tabella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) e  metti  i pezzi  da par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assa ora alla </a:t>
            </a: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figura b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rova l’esatta metà di ogni lato 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unisci i punt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ottenuti con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due linee tratteggiate perpendicolari tra lo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itaglia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la </a:t>
            </a: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figura blu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guendo le linee tratteggiate e i margini ester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sa ottieni? (scrivilo nella tabella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ividi ogni figura ottenuta a metà con un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diagonale tratteggiata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taglia anche queste piccole figure sulla linea tratteggi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nta tutti i pezzi ottenuti (scrivilo nella tabella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^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isura  i lati e gli angoli  di ogni nuova figura (scrivilo nella tabella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@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) e  metti i pezzi da par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osa hai scoperto?  Scrivilo nella tab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2240" y="1371600"/>
            <a:ext cx="2085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 servo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uad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niome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ita ben tempe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mperamat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mma per cancell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bi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cartonc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3 Kg di pazi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943600" y="228600"/>
            <a:ext cx="609480" cy="1066320"/>
            <a:chOff x="5943600" y="228600"/>
            <a:chExt cx="609480" cy="1066320"/>
          </a:xfrm>
        </p:grpSpPr>
        <p:sp>
          <p:nvSpPr>
            <p:cNvPr id="45" name=""/>
            <p:cNvSpPr/>
            <p:nvPr/>
          </p:nvSpPr>
          <p:spPr>
            <a:xfrm>
              <a:off x="6410880" y="5994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43600" y="5850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159240" y="9396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73440" y="9835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02720" y="623160"/>
              <a:ext cx="38196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2120" y="6674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38640" y="642600"/>
              <a:ext cx="12816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39520" y="11599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94320" y="11980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140520" y="4071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77960" y="4633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68320" y="4370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38080" y="4906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90920" y="5014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23880" y="228600"/>
              <a:ext cx="46332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591560" y="380880"/>
            <a:ext cx="357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azone BT"/>
              </a:rPr>
              <a:t>Leggi, misur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azone BT"/>
              </a:rPr>
              <a:t>disegna, ritagli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azone BT"/>
              </a:rPr>
              <a:t>e scopr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66640" y="1481040"/>
            <a:ext cx="5757840" cy="5757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0760" y="1066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4000" y="114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50680" y="7162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7080" y="7162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943600" y="228600"/>
            <a:ext cx="609480" cy="1066320"/>
            <a:chOff x="5943600" y="228600"/>
            <a:chExt cx="609480" cy="1066320"/>
          </a:xfrm>
        </p:grpSpPr>
        <p:sp>
          <p:nvSpPr>
            <p:cNvPr id="68" name=""/>
            <p:cNvSpPr/>
            <p:nvPr/>
          </p:nvSpPr>
          <p:spPr>
            <a:xfrm>
              <a:off x="6410880" y="5994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3600" y="5850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59240" y="9396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73440" y="9835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02720" y="623160"/>
              <a:ext cx="38196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42120" y="6674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38640" y="642600"/>
              <a:ext cx="12816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39520" y="11599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94320" y="11980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40520" y="4071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77960" y="4633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68320" y="4370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38080" y="4906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90920" y="5014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23880" y="228600"/>
              <a:ext cx="46332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943600" y="228600"/>
            <a:ext cx="609480" cy="1066320"/>
            <a:chOff x="5943600" y="228600"/>
            <a:chExt cx="609480" cy="1066320"/>
          </a:xfrm>
        </p:grpSpPr>
        <p:sp>
          <p:nvSpPr>
            <p:cNvPr id="85" name=""/>
            <p:cNvSpPr/>
            <p:nvPr/>
          </p:nvSpPr>
          <p:spPr>
            <a:xfrm>
              <a:off x="6410880" y="5994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43600" y="5850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59240" y="9396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73440" y="9835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02720" y="623160"/>
              <a:ext cx="38196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42120" y="6674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38640" y="642600"/>
              <a:ext cx="12816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39520" y="11599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94320" y="11980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40520" y="4071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77960" y="4633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68320" y="4370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38080" y="4906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90920" y="5014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23880" y="228600"/>
              <a:ext cx="46332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0" name=""/>
          <p:cNvGraphicFramePr/>
          <p:nvPr/>
        </p:nvGraphicFramePr>
        <p:xfrm>
          <a:off x="380880" y="1371600"/>
          <a:ext cx="6096240" cy="76327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 ros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 b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tengo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tengo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° pezzi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^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° pezzi 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zzo n°….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angoli………………………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lati………………………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zzo n°….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angoli………………………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lati………………………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zzo n°….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angoli………………………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lati………………………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zzo n°….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angoli………………………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lati………………………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zzo n°….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angoli………………………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lati………………………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zzo n°….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angoli………………………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lati………………………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zzo n°….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angoli………………………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lati………………………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zzo n°….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angoli………………………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lati………………………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@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zzo n°….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angoli………………………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lati………………………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zzo n°….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angoli………………………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lati………………………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zzo n°….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angoli………………………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lati………………………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zzo n°….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angoli………………………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lati………………………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zzo n°….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angoli………………………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lati………………………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zzo n°….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angoli………………………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lati………………………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zzo n°….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angoli………………………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lati………………………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zzo n°….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angoli………………………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 lati………………………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8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servaz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429000" y="1447920"/>
            <a:ext cx="0" cy="55623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20:52:50Z</dcterms:created>
  <dc:creator>Windows 98</dc:creator>
  <dc:description/>
  <dc:language>en-US</dc:language>
  <cp:lastModifiedBy>Windows 98</cp:lastModifiedBy>
  <dcterms:modified xsi:type="dcterms:W3CDTF">2001-04-18T13:47:00Z</dcterms:modified>
  <cp:revision>23</cp:revision>
  <dc:subject/>
  <dc:title>Presentazione di PowerPoint</dc:title>
</cp:coreProperties>
</file>