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DD5-F4EE-41C3-B3F3-806AE56C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A4A-D793-4801-B6C3-CDFA20B8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2D2-934D-47B6-925E-54FAAA75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89A-E70F-4515-A17F-A2D08B5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CCC-3712-4876-B47B-910BC6A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052-F947-425E-B0BB-0C05D4F9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8EC-D403-4310-B23F-1460837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2B5-E379-410B-A300-8291DD47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5CA-6E95-4070-8554-FAA5A17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D57-D8CA-4350-9983-7EC2092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1DA-9421-41BD-992D-9E22E6B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06A-EB94-491C-844F-68A307BA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C3E-C348-4610-BB37-D7D0741847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5880" y="3049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isio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MMAMIA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0440" y="129528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l terrore della classe IV e V di V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505320" y="2438280"/>
            <a:ext cx="2133360" cy="3200400"/>
            <a:chOff x="3505320" y="2438280"/>
            <a:chExt cx="2133360" cy="3200400"/>
          </a:xfrm>
        </p:grpSpPr>
        <p:sp>
          <p:nvSpPr>
            <p:cNvPr id="44" name=""/>
            <p:cNvSpPr/>
            <p:nvPr/>
          </p:nvSpPr>
          <p:spPr>
            <a:xfrm>
              <a:off x="3505320" y="24382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05320" y="304776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440080" y="2514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432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286000"/>
            <a:ext cx="12952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95280" y="29718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3414600"/>
            <a:ext cx="12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ivid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ioè che 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ve divi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2952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36600" y="2209680"/>
            <a:ext cx="239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ivis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ioè le parti in cui si div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200400"/>
            <a:ext cx="12952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680" y="4800600"/>
            <a:ext cx="323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Quoz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o quoto se la divisione è senza res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ioè il ri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8120" y="339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loud"/>
          <p:cNvSpPr/>
          <p:nvPr/>
        </p:nvSpPr>
        <p:spPr>
          <a:xfrm>
            <a:off x="5867280" y="3124080"/>
            <a:ext cx="2743200" cy="1838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040" y="365760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54864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19520" y="3886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78476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29800" y="5734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33760" y="4724280"/>
            <a:ext cx="106668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90960" y="4800600"/>
            <a:ext cx="68580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172200" y="4876920"/>
            <a:ext cx="380880" cy="609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629040" y="4800600"/>
            <a:ext cx="15228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086600" y="4952880"/>
            <a:ext cx="76320" cy="5335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4876920"/>
            <a:ext cx="152640" cy="609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800600"/>
            <a:ext cx="38088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4724280"/>
            <a:ext cx="60948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7320" y="4724280"/>
            <a:ext cx="83808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6080" y="60800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6172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924680" y="0"/>
            <a:ext cx="609480" cy="1066320"/>
            <a:chOff x="7924680" y="0"/>
            <a:chExt cx="609480" cy="1066320"/>
          </a:xfrm>
        </p:grpSpPr>
        <p:sp>
          <p:nvSpPr>
            <p:cNvPr id="85" name=""/>
            <p:cNvSpPr/>
            <p:nvPr/>
          </p:nvSpPr>
          <p:spPr>
            <a:xfrm>
              <a:off x="83919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46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403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548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838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32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197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209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757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219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90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497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195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723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49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685800"/>
            <a:ext cx="3962520" cy="4129200"/>
            <a:chOff x="380880" y="685800"/>
            <a:chExt cx="3962520" cy="4129200"/>
          </a:xfrm>
        </p:grpSpPr>
        <p:sp>
          <p:nvSpPr>
            <p:cNvPr id="101" name="Cloud"/>
            <p:cNvSpPr/>
            <p:nvPr/>
          </p:nvSpPr>
          <p:spPr>
            <a:xfrm>
              <a:off x="1143000" y="685800"/>
              <a:ext cx="2743200" cy="183816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4760" y="1219320"/>
              <a:ext cx="130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400" spc="-1" strike="noStrike">
                  <a:solidFill>
                    <a:srgbClr val="000000"/>
                  </a:solidFill>
                  <a:latin typeface="Times New Roman"/>
                </a:rPr>
                <a:t>983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8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52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096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2346480"/>
              <a:ext cx="30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05160" y="3295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09480" y="2286000"/>
              <a:ext cx="1067040" cy="7621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066320" y="2362320"/>
              <a:ext cx="68580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447920" y="2438280"/>
              <a:ext cx="380880" cy="6098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904760" y="2362320"/>
              <a:ext cx="15228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61960" y="2514600"/>
              <a:ext cx="75960" cy="5335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438280"/>
              <a:ext cx="152280" cy="6098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2362320"/>
              <a:ext cx="38124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2286000"/>
              <a:ext cx="609840" cy="7621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2286000"/>
              <a:ext cx="838440" cy="7621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8120" y="4111560"/>
              <a:ext cx="119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000" spc="-1" strike="noStrike">
                  <a:solidFill>
                    <a:srgbClr val="000000"/>
                  </a:solidFill>
                  <a:latin typeface="Times New Roman"/>
                </a:rPr>
                <a:t>109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3048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29200" y="1019160"/>
            <a:ext cx="3962520" cy="4848120"/>
            <a:chOff x="5029200" y="1019160"/>
            <a:chExt cx="3962520" cy="4848120"/>
          </a:xfrm>
        </p:grpSpPr>
        <p:sp>
          <p:nvSpPr>
            <p:cNvPr id="125" name="Cloud"/>
            <p:cNvSpPr/>
            <p:nvPr/>
          </p:nvSpPr>
          <p:spPr>
            <a:xfrm>
              <a:off x="5715000" y="4029120"/>
              <a:ext cx="2743200" cy="18381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6760" y="4562640"/>
              <a:ext cx="130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400" spc="-1" strike="noStrike">
                  <a:solidFill>
                    <a:srgbClr val="000000"/>
                  </a:solidFill>
                  <a:latin typeface="Times New Roman"/>
                </a:rPr>
                <a:t>983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292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6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724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96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28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53480" y="33717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57800" y="2286000"/>
              <a:ext cx="1371600" cy="8380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14640" y="2362320"/>
              <a:ext cx="1066680" cy="7617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95520" y="2438280"/>
              <a:ext cx="83844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553080" y="2438280"/>
              <a:ext cx="45720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010280" y="2438280"/>
              <a:ext cx="15264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2438280"/>
              <a:ext cx="22860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438280"/>
              <a:ext cx="457200" cy="685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0120" y="2362320"/>
              <a:ext cx="761760" cy="7617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6080" y="2286000"/>
              <a:ext cx="1143000" cy="8380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6080" y="1019160"/>
              <a:ext cx="119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000" spc="-1" strike="noStrike">
                  <a:solidFill>
                    <a:srgbClr val="000000"/>
                  </a:solidFill>
                  <a:latin typeface="Times New Roman"/>
                </a:rPr>
                <a:t>109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86800" y="3124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54080" y="152280"/>
            <a:ext cx="71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divisione è l’operazione opposta della molti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153280" y="0"/>
            <a:ext cx="609480" cy="1066320"/>
            <a:chOff x="8153280" y="0"/>
            <a:chExt cx="609480" cy="1066320"/>
          </a:xfrm>
        </p:grpSpPr>
        <p:sp>
          <p:nvSpPr>
            <p:cNvPr id="153" name=""/>
            <p:cNvSpPr/>
            <p:nvPr/>
          </p:nvSpPr>
          <p:spPr>
            <a:xfrm>
              <a:off x="86205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89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834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124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518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483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495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043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505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76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783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481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009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335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1143000" y="533520"/>
            <a:ext cx="2743200" cy="18381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4760" y="106668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19384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05160" y="3143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480" y="2133720"/>
            <a:ext cx="1067040" cy="7617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066320" y="2209680"/>
            <a:ext cx="68580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447920" y="2286000"/>
            <a:ext cx="380880" cy="609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904760" y="2209680"/>
            <a:ext cx="15228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61960" y="2362320"/>
            <a:ext cx="75960" cy="533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286000"/>
            <a:ext cx="152280" cy="609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209680"/>
            <a:ext cx="38124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609840" cy="7617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133720"/>
            <a:ext cx="838440" cy="7617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480" y="27432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8720" y="76320"/>
            <a:ext cx="66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divisione non è altro che un insieme di sott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loud"/>
          <p:cNvSpPr/>
          <p:nvPr/>
        </p:nvSpPr>
        <p:spPr>
          <a:xfrm>
            <a:off x="5257800" y="533520"/>
            <a:ext cx="2743200" cy="18381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560" y="106668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5600" y="9144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676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5200" y="114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6600" y="22860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5600" y="2133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6600" y="26668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6600" y="30481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5600" y="24382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514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4080" y="419112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895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6600" y="38098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6600" y="41911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5600" y="35812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657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5600" y="40384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44197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6600" y="34290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5600" y="3276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5600" y="28195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6600" y="45720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5600" y="4419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6600" y="49528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45600" y="48006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6600" y="53341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29400" y="535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55627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880" y="60958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60199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001000" y="0"/>
            <a:ext cx="609480" cy="1066320"/>
            <a:chOff x="8001000" y="0"/>
            <a:chExt cx="609480" cy="1066320"/>
          </a:xfrm>
        </p:grpSpPr>
        <p:sp>
          <p:nvSpPr>
            <p:cNvPr id="230" name=""/>
            <p:cNvSpPr/>
            <p:nvPr/>
          </p:nvSpPr>
          <p:spPr>
            <a:xfrm>
              <a:off x="846828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100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1664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3084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60120" y="3945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9952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96040" y="4140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9692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5172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9792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536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2572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548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4832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81280" y="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4160" y="7632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prietà invaria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52280" y="6094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oltiplicando o dividendo i due termini di una divisione per lo stesso numero il risultato non ca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Cloud"/>
          <p:cNvSpPr/>
          <p:nvPr/>
        </p:nvSpPr>
        <p:spPr>
          <a:xfrm>
            <a:off x="762120" y="990720"/>
            <a:ext cx="1371600" cy="919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848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9720" y="1066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14479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15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9800" y="1219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33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7440" y="1876320"/>
            <a:ext cx="38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loud"/>
          <p:cNvSpPr/>
          <p:nvPr/>
        </p:nvSpPr>
        <p:spPr>
          <a:xfrm>
            <a:off x="685800" y="2890800"/>
            <a:ext cx="1371600" cy="91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2520" y="311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2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38960" y="1828800"/>
            <a:ext cx="38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32767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2767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2767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9720" y="2895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50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990720"/>
            <a:ext cx="4191120" cy="9903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2819520"/>
            <a:ext cx="4191120" cy="9903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6120" y="304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3320" y="304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loud"/>
          <p:cNvSpPr/>
          <p:nvPr/>
        </p:nvSpPr>
        <p:spPr>
          <a:xfrm>
            <a:off x="730080" y="4719600"/>
            <a:ext cx="1371600" cy="919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36800" y="4948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6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4000" y="47242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944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11520" y="4648320"/>
            <a:ext cx="4190760" cy="9903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80400" y="487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3760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7080" y="3879720"/>
            <a:ext cx="37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38600" y="3832200"/>
            <a:ext cx="32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055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924680" y="0"/>
            <a:ext cx="609480" cy="1066320"/>
            <a:chOff x="7924680" y="0"/>
            <a:chExt cx="609480" cy="1066320"/>
          </a:xfrm>
        </p:grpSpPr>
        <p:sp>
          <p:nvSpPr>
            <p:cNvPr id="292" name=""/>
            <p:cNvSpPr/>
            <p:nvPr/>
          </p:nvSpPr>
          <p:spPr>
            <a:xfrm>
              <a:off x="83919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46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403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548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838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32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197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09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757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219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590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97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195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723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49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4520" y="22860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prietà distribu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001000" y="0"/>
            <a:ext cx="609480" cy="1066320"/>
            <a:chOff x="8001000" y="0"/>
            <a:chExt cx="609480" cy="1066320"/>
          </a:xfrm>
        </p:grpSpPr>
        <p:sp>
          <p:nvSpPr>
            <p:cNvPr id="310" name=""/>
            <p:cNvSpPr/>
            <p:nvPr/>
          </p:nvSpPr>
          <p:spPr>
            <a:xfrm>
              <a:off x="846828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100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1664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3084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60120" y="3945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9952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96040" y="4140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9692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5172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792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3536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2572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9548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4832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1280" y="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Cloud"/>
          <p:cNvSpPr/>
          <p:nvPr/>
        </p:nvSpPr>
        <p:spPr>
          <a:xfrm>
            <a:off x="914400" y="762120"/>
            <a:ext cx="1371600" cy="919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211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98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9720" y="838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12193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215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9800" y="990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762120"/>
            <a:ext cx="4191120" cy="9903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33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62120" y="1752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175248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Cloud"/>
          <p:cNvSpPr/>
          <p:nvPr/>
        </p:nvSpPr>
        <p:spPr>
          <a:xfrm>
            <a:off x="2057400" y="2357280"/>
            <a:ext cx="1371600" cy="9194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loud"/>
          <p:cNvSpPr/>
          <p:nvPr/>
        </p:nvSpPr>
        <p:spPr>
          <a:xfrm>
            <a:off x="0" y="2357280"/>
            <a:ext cx="1371600" cy="9194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720" y="2514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3760" y="251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8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51920" y="3657600"/>
            <a:ext cx="1066680" cy="2209680"/>
            <a:chOff x="151920" y="3657600"/>
            <a:chExt cx="1066680" cy="2209680"/>
          </a:xfrm>
        </p:grpSpPr>
        <p:sp>
          <p:nvSpPr>
            <p:cNvPr id="348" name=""/>
            <p:cNvSpPr/>
            <p:nvPr/>
          </p:nvSpPr>
          <p:spPr>
            <a:xfrm>
              <a:off x="609480" y="39625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4197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7339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8769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1911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46483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51055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3341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480" y="55627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004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-419400" y="4228920"/>
              <a:ext cx="2209680" cy="10666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09320" y="3657600"/>
            <a:ext cx="1066680" cy="2209680"/>
            <a:chOff x="2209320" y="3657600"/>
            <a:chExt cx="1066680" cy="2209680"/>
          </a:xfrm>
        </p:grpSpPr>
        <p:sp>
          <p:nvSpPr>
            <p:cNvPr id="360" name=""/>
            <p:cNvSpPr/>
            <p:nvPr/>
          </p:nvSpPr>
          <p:spPr>
            <a:xfrm>
              <a:off x="2666880" y="39625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66880" y="44197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66880" y="48769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6880" y="41911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6880" y="46483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66880" y="51055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66880" y="53341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5562720"/>
              <a:ext cx="1522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744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1637640" y="4228920"/>
              <a:ext cx="2209680" cy="10666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34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0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5320" y="57913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6400" y="57452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6720" y="6172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236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1640" y="60642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30800" y="60958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40280" y="6172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71640" y="1523880"/>
            <a:ext cx="2971800" cy="4648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35845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98</cp:lastModifiedBy>
  <dcterms:modified xsi:type="dcterms:W3CDTF">2001-04-18T13:48:04Z</dcterms:modified>
  <cp:revision>17</cp:revision>
  <dc:subject/>
  <dc:title>PowerPoint Presentation</dc:title>
</cp:coreProperties>
</file>