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1F2-7032-42F0-ACD0-ACEC078C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A78D-6FEA-4EAC-8C91-1D576A5B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FCA5-6378-4AA4-929E-6D58883F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23BD-6E80-4D19-B6AD-6C25B549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4C7F-0D12-4C44-96BE-D2D34E9E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5A3C-5713-47D1-9A40-E66C9DFF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EFB9-19B7-4520-B6BD-8B2C34F4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A78D-8A6D-4139-8613-618494B7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4FD-642A-48F5-AF94-B5F7B394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3A63-AD0C-4DCD-B939-06E4C992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CB2-FC4A-4D44-8159-030B5323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29FE-3DCE-461D-963A-3DF939AF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12D4-4AE5-4E1A-852B-F6EF9352B5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143000"/>
            <a:ext cx="609480" cy="1066320"/>
            <a:chOff x="533520" y="1143000"/>
            <a:chExt cx="609480" cy="1066320"/>
          </a:xfrm>
        </p:grpSpPr>
        <p:sp>
          <p:nvSpPr>
            <p:cNvPr id="42" name=""/>
            <p:cNvSpPr/>
            <p:nvPr/>
          </p:nvSpPr>
          <p:spPr>
            <a:xfrm>
              <a:off x="1000800" y="15138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3520" y="14994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49160" y="18540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63360" y="18979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92640" y="1537560"/>
              <a:ext cx="38196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32040" y="15818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8560" y="1557000"/>
              <a:ext cx="12816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9440" y="20743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84240" y="21124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0440" y="13215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7880" y="13777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58240" y="13514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8000" y="14050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0840" y="14158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3800" y="1143000"/>
              <a:ext cx="46332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057400" y="228600"/>
            <a:ext cx="2743200" cy="762120"/>
          </a:xfrm>
          <a:prstGeom prst="wedgeRoundRectCallout">
            <a:avLst>
              <a:gd name="adj1" fmla="val -86805"/>
              <a:gd name="adj2" fmla="val 91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ari Isabel, Michele,Jess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giocate con m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mazone BT"/>
              </a:rPr>
              <a:t>La maestra Luisa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65720" y="1676520"/>
            <a:ext cx="39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ti in colonna ed esegui con l’aiuto dello sche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2286000"/>
          <a:ext cx="6171840" cy="790560"/>
        </p:xfrm>
        <a:graphic>
          <a:graphicData uri="http://schemas.openxmlformats.org/drawingml/2006/table">
            <a:tbl>
              <a:tblPr/>
              <a:tblGrid>
                <a:gridCol w="879840"/>
                <a:gridCol w="883800"/>
                <a:gridCol w="881280"/>
                <a:gridCol w="881640"/>
                <a:gridCol w="882000"/>
                <a:gridCol w="883440"/>
                <a:gridCol w="879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lia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ina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es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s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505240" y="3657600"/>
          <a:ext cx="4352760" cy="1288800"/>
        </p:xfrm>
        <a:graphic>
          <a:graphicData uri="http://schemas.openxmlformats.org/drawingml/2006/table">
            <a:tbl>
              <a:tblPr/>
              <a:tblGrid>
                <a:gridCol w="542880"/>
                <a:gridCol w="544320"/>
                <a:gridCol w="544680"/>
                <a:gridCol w="546120"/>
                <a:gridCol w="544320"/>
                <a:gridCol w="544680"/>
                <a:gridCol w="542880"/>
                <a:gridCol w="542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lia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ina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m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esim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sim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517680" y="369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05240" y="5181480"/>
          <a:ext cx="4352760" cy="1288800"/>
        </p:xfrm>
        <a:graphic>
          <a:graphicData uri="http://schemas.openxmlformats.org/drawingml/2006/table">
            <a:tbl>
              <a:tblPr/>
              <a:tblGrid>
                <a:gridCol w="542880"/>
                <a:gridCol w="544320"/>
                <a:gridCol w="544680"/>
                <a:gridCol w="546120"/>
                <a:gridCol w="544320"/>
                <a:gridCol w="544680"/>
                <a:gridCol w="542880"/>
                <a:gridCol w="542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lia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ina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m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esim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sim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505240" y="6781680"/>
          <a:ext cx="4352760" cy="1288800"/>
        </p:xfrm>
        <a:graphic>
          <a:graphicData uri="http://schemas.openxmlformats.org/drawingml/2006/table">
            <a:tbl>
              <a:tblPr/>
              <a:tblGrid>
                <a:gridCol w="542880"/>
                <a:gridCol w="544320"/>
                <a:gridCol w="544680"/>
                <a:gridCol w="546120"/>
                <a:gridCol w="544320"/>
                <a:gridCol w="544680"/>
                <a:gridCol w="542880"/>
                <a:gridCol w="542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lia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ina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m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esim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sim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505240" y="8312040"/>
          <a:ext cx="4352760" cy="1288800"/>
        </p:xfrm>
        <a:graphic>
          <a:graphicData uri="http://schemas.openxmlformats.org/drawingml/2006/table">
            <a:tbl>
              <a:tblPr/>
              <a:tblGrid>
                <a:gridCol w="542880"/>
                <a:gridCol w="544320"/>
                <a:gridCol w="544680"/>
                <a:gridCol w="546120"/>
                <a:gridCol w="544320"/>
                <a:gridCol w="544680"/>
                <a:gridCol w="542880"/>
                <a:gridCol w="542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lia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ina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m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esim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sim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60" y="4135320"/>
            <a:ext cx="13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38,2-14,16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68332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43,698-111,025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7238880"/>
            <a:ext cx="13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,364+156,3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680" y="865512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,7+180,3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7120" y="4343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4572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5867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6095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61722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7620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7696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9144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9220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76400" y="7315200"/>
            <a:ext cx="228600" cy="228600"/>
          </a:xfrm>
          <a:custGeom>
            <a:avLst/>
            <a:gdLst>
              <a:gd name="textAreaLeft" fmla="*/ -360 w 228600"/>
              <a:gd name="textAreaRight" fmla="*/ 22860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0" y="8640"/>
                </a:lnTo>
                <a:lnTo>
                  <a:pt x="0" y="8600"/>
                </a:lnTo>
                <a:lnTo>
                  <a:pt x="8600" y="8600"/>
                </a:lnTo>
                <a:lnTo>
                  <a:pt x="8600" y="0"/>
                </a:lnTo>
                <a:lnTo>
                  <a:pt x="8640" y="0"/>
                </a:lnTo>
                <a:lnTo>
                  <a:pt x="10800" y="0"/>
                </a:lnTo>
                <a:lnTo>
                  <a:pt x="12960" y="0"/>
                </a:lnTo>
                <a:lnTo>
                  <a:pt x="13000" y="0"/>
                </a:lnTo>
                <a:lnTo>
                  <a:pt x="13000" y="8600"/>
                </a:lnTo>
                <a:lnTo>
                  <a:pt x="21600" y="8600"/>
                </a:lnTo>
                <a:lnTo>
                  <a:pt x="21600" y="8640"/>
                </a:lnTo>
                <a:lnTo>
                  <a:pt x="21600" y="10800"/>
                </a:lnTo>
                <a:lnTo>
                  <a:pt x="21600" y="12960"/>
                </a:lnTo>
                <a:lnTo>
                  <a:pt x="21600" y="13000"/>
                </a:lnTo>
                <a:lnTo>
                  <a:pt x="13000" y="13000"/>
                </a:lnTo>
                <a:lnTo>
                  <a:pt x="13000" y="21600"/>
                </a:lnTo>
                <a:lnTo>
                  <a:pt x="12960" y="21600"/>
                </a:lnTo>
                <a:lnTo>
                  <a:pt x="10800" y="21600"/>
                </a:lnTo>
                <a:lnTo>
                  <a:pt x="8640" y="21600"/>
                </a:lnTo>
                <a:lnTo>
                  <a:pt x="8600" y="21600"/>
                </a:lnTo>
                <a:lnTo>
                  <a:pt x="8600" y="13000"/>
                </a:lnTo>
                <a:lnTo>
                  <a:pt x="0" y="13000"/>
                </a:lnTo>
                <a:lnTo>
                  <a:pt x="0" y="129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476400" y="8839080"/>
            <a:ext cx="228600" cy="228600"/>
          </a:xfrm>
          <a:custGeom>
            <a:avLst/>
            <a:gdLst>
              <a:gd name="textAreaLeft" fmla="*/ -360 w 228600"/>
              <a:gd name="textAreaRight" fmla="*/ 22860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0" y="8640"/>
                </a:lnTo>
                <a:lnTo>
                  <a:pt x="0" y="8600"/>
                </a:lnTo>
                <a:lnTo>
                  <a:pt x="8600" y="8600"/>
                </a:lnTo>
                <a:lnTo>
                  <a:pt x="8600" y="0"/>
                </a:lnTo>
                <a:lnTo>
                  <a:pt x="8640" y="0"/>
                </a:lnTo>
                <a:lnTo>
                  <a:pt x="10800" y="0"/>
                </a:lnTo>
                <a:lnTo>
                  <a:pt x="12960" y="0"/>
                </a:lnTo>
                <a:lnTo>
                  <a:pt x="13000" y="0"/>
                </a:lnTo>
                <a:lnTo>
                  <a:pt x="13000" y="8600"/>
                </a:lnTo>
                <a:lnTo>
                  <a:pt x="21600" y="8600"/>
                </a:lnTo>
                <a:lnTo>
                  <a:pt x="21600" y="8640"/>
                </a:lnTo>
                <a:lnTo>
                  <a:pt x="21600" y="10800"/>
                </a:lnTo>
                <a:lnTo>
                  <a:pt x="21600" y="12960"/>
                </a:lnTo>
                <a:lnTo>
                  <a:pt x="21600" y="13000"/>
                </a:lnTo>
                <a:lnTo>
                  <a:pt x="13000" y="13000"/>
                </a:lnTo>
                <a:lnTo>
                  <a:pt x="13000" y="21600"/>
                </a:lnTo>
                <a:lnTo>
                  <a:pt x="12960" y="21600"/>
                </a:lnTo>
                <a:lnTo>
                  <a:pt x="10800" y="21600"/>
                </a:lnTo>
                <a:lnTo>
                  <a:pt x="8640" y="21600"/>
                </a:lnTo>
                <a:lnTo>
                  <a:pt x="8600" y="21600"/>
                </a:lnTo>
                <a:lnTo>
                  <a:pt x="8600" y="13000"/>
                </a:lnTo>
                <a:lnTo>
                  <a:pt x="0" y="13000"/>
                </a:lnTo>
                <a:lnTo>
                  <a:pt x="0" y="129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22600" y="609480"/>
            <a:ext cx="591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a proviamo senza schema, sul quaderno….però prima scomponi ogni num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57200" y="152280"/>
            <a:ext cx="609480" cy="1066680"/>
            <a:chOff x="457200" y="152280"/>
            <a:chExt cx="609480" cy="1066680"/>
          </a:xfrm>
        </p:grpSpPr>
        <p:sp>
          <p:nvSpPr>
            <p:cNvPr id="83" name=""/>
            <p:cNvSpPr/>
            <p:nvPr/>
          </p:nvSpPr>
          <p:spPr>
            <a:xfrm>
              <a:off x="924480" y="52308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50904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2840" y="86328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87040" y="90756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6320" y="547200"/>
              <a:ext cx="38196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5720" y="591120"/>
              <a:ext cx="121320" cy="16380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2240" y="566280"/>
              <a:ext cx="128160" cy="14364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3120" y="108396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07920" y="112212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4120" y="330840"/>
              <a:ext cx="194760" cy="24228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1560" y="38700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1920" y="36072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1680" y="41472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4520" y="42516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7480" y="152280"/>
              <a:ext cx="463320" cy="34848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19120" y="1585800"/>
            <a:ext cx="1735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2,777   -12,432 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87,2     -261,123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,987   -23,600 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6,12     +35,64  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5,3     +3,125  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36960" y="3276720"/>
            <a:ext cx="42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ti in ordine nella tabella dal più piccolo al più 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038480" y="3733920"/>
          <a:ext cx="456840" cy="3349440"/>
        </p:xfrm>
        <a:graphic>
          <a:graphicData uri="http://schemas.openxmlformats.org/drawingml/2006/table">
            <a:tbl>
              <a:tblPr/>
              <a:tblGrid>
                <a:gridCol w="4568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522160" y="4038480"/>
            <a:ext cx="1003680" cy="25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m   5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    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m  12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m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m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m   0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m  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m  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     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m   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8839080"/>
            <a:ext cx="5398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880" y="883908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8839080"/>
            <a:ext cx="71928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853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8839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82400" y="7391520"/>
            <a:ext cx="430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rivi le seguenti misure al giusto posto sulla li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m 50;cm 2; 1,2 dm; 1dm; 0,6d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853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883908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853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88390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853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8839080"/>
            <a:ext cx="359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8534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82296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88390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82296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822960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82296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82296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20:51:54Z</dcterms:created>
  <dc:creator>Windows 98</dc:creator>
  <dc:description/>
  <dc:language>en-US</dc:language>
  <cp:lastModifiedBy>Windows 98</cp:lastModifiedBy>
  <dcterms:modified xsi:type="dcterms:W3CDTF">2001-04-18T13:49:51Z</dcterms:modified>
  <cp:revision>4</cp:revision>
  <dc:subject/>
  <dc:title>Presentazione di PowerPoint</dc:title>
</cp:coreProperties>
</file>